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AB75F-CEE7-4DD3-BA58-D309EB938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86A9-B872-4E63-A90A-5773B292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F716F-4A24-45B8-BA09-352803C58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F93A2-E858-4508-A5D1-46574B702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67EB7-8EFF-45DD-A1F1-6B99DAF0F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E6B41-383E-4EB3-913F-AF9426DEA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751C1-376C-4A8D-9F75-42C0E16FA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1875C-EC6E-4242-BD15-F9E81650B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5EC16-4B1E-448B-B1A5-620BBACB4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B8A0E-68FC-4FE3-9251-9D042D8F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FA18E-71EB-4EDA-B286-B68F7A024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1E3C-B4AC-41DF-961E-2194FAB81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E268B-3A11-4CC2-A5FE-985EB8E75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E33F0-1FA1-49A4-BA72-4522E5FD1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2C797-91A0-4D00-83EB-41ACFF604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2AE30-9273-409F-86D9-B4A7D4E46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45219-289D-49F9-8098-D1C5CBED6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5F927-0BF4-4C05-9872-353B7D9D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CC2A-F57F-4BD3-B2D1-E2B27C44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3565-C9F9-4C03-A2BF-7821191F4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D1B7-6D01-4E84-A5BB-F986D1C38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4D83-BFDD-443B-A4A3-4973CBEA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FB8B-D93F-4E4F-9A83-33C91705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77AF-EC97-490F-B58B-642693A1A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901B-A7BB-48EA-9A7A-AA359D754216}" type="datetime">
              <a:rPr b="0" lang="tr-TR" sz="1200" spc="-1" strike="noStrike">
                <a:solidFill>
                  <a:srgbClr val="898989"/>
                </a:solidFill>
                <a:latin typeface="Calibri"/>
              </a:rPr>
              <a:t>30.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C2B7-D3DE-4116-903E-E3EE75AAE82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F336-59B7-4E91-A054-B4E0BBF58F6D}" type="datetime">
              <a:rPr b="0" lang="tr-TR" sz="1200" spc="-1" strike="noStrike">
                <a:solidFill>
                  <a:srgbClr val="898989"/>
                </a:solidFill>
                <a:latin typeface="Calibri"/>
              </a:rPr>
              <a:t>30.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CE62-7529-494E-BD93-F54C8C32365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D1E6-C47D-4C02-AFBF-7D8A588F27A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7661-1740-49D6-81D6-E372B5E673D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E664-B3B3-4E50-98FF-90B863E9DE1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606B-B2B9-42EF-B49F-3AA72E15AAD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22B3-2C11-46FC-BC6A-A5B4709C586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DA7C-FCBA-4825-B14C-F0763FBA1C2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5B0D-F6CF-4C6C-89F1-FC3322183EB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71F2-B63B-438B-B80A-2D3F5CEB33E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F72D-8E39-4A6A-A0FA-1873061FF3D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9F68-D228-4605-A125-E87E104B828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F4EA-C45B-4800-8520-407995D7EA6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1D9E-6F91-4E59-A0F1-5724643BE28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065D-D60E-4549-A8E2-100EBF334B2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CEAD-FD35-4757-A382-681A43C1358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BAA0-25F7-4F19-B664-6019277A7D1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EF94-16EF-4FE6-8573-574E4D1EC83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E8E9-78C3-408A-9263-3AE995A775C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6F57-AD36-4A95-9E42-6609179708C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054C-FA30-4D24-B8AC-386E5A8F1AB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4890-EE1F-42FB-976D-807C2475F07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3D9D-1984-4B17-BB06-F89CA10D653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069E-3F79-41B2-B14C-17D20C46D88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D34A-90F9-4DA7-9E79-E15DD80DB5F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0476-3D43-448C-9DC9-2F65D54FA42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411A-BF52-43A1-AFBD-E4A49E30A6D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15B4-128D-49B0-B104-57BCFDCB927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1582-4CD3-4052-89FC-237623D58B4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EAE14EFA-219C-4F3F-AA81-D290FB5B90E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DCF4-D32D-4AA0-B321-9D4395CD378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8274-C1E5-4AF2-B64F-73385AA62A5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8042-783B-41DA-872A-52B1ADC28FD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C438-4EC5-4976-86D6-BA79035BF8B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56D6-AAD8-4977-9E11-09BA0EAA553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4498-228E-48AE-A38B-9E809D3B15A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01B1-BE6C-4461-92C3-021E8358BD1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A086-9C62-4726-951F-2C36184C12E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438-1BC6-41B1-B162-7C04F7A2FF5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9C51-6278-43B9-B254-63D32556178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B570-6C75-4B0C-A5F7-CC825783600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